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4392-66B9-494F-830C-4015E4BA0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SS is used to exchange information between wikis, portals, and websi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Mashups are driven by service workflows which include OGC data access and analysis servi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Metadata is aggregated in dataspaces and translated to common metadata formats for catalo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B8D-DAAE-46F8-926D-AF31149E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7A5-1E0C-4433-8613-707B2907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D0E-7587-4C2A-B854-55CDFBC1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D984-363E-4B7E-9CF6-F398875D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64E-0DA5-44B4-8E1F-05FD94D6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F11-2CC3-48B7-98F4-BF409A1C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B3C-1E13-4C5B-A77C-B686888C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C5E-200D-4E1A-A522-245DDFBE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223C-07C0-4BB9-A531-A824FC87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421-FEF7-4A85-8AC7-8E217DC9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E732-8006-40D5-A609-D4711BFE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A57-A6EF-41FD-A9CE-23C38B81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0D1E-B8BB-4EBE-87AE-1523538A0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143000"/>
            <a:ext cx="8381880" cy="39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s-based access to distributed emission inventory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s for data processing and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s for sharing data &amp; too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e to community-based, collaborative environments (cyberinfrastructu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ac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OGC services for emissions relat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DataFed to register datasets, provide OGC interfaces for datasets, develop analysis services, and create service work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emission analysis tools to compare emissions inven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“mashup” applications for analysis and vis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information exchange connections within service oriented frameworks and with Web 2.0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5001" t="11845" r="52605" b="79591"/>
          <a:stretch/>
        </p:blipFill>
        <p:spPr>
          <a:xfrm>
            <a:off x="380880" y="152280"/>
            <a:ext cx="8458200" cy="990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10273" r="21415" b="4796"/>
          <a:stretch/>
        </p:blipFill>
        <p:spPr>
          <a:xfrm>
            <a:off x="5943600" y="4495680"/>
            <a:ext cx="2590920" cy="182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666880" y="4952880"/>
            <a:ext cx="3581640" cy="155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48520" y="45324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sh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34640" y="59436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28600" y="4648320"/>
            <a:ext cx="2513160" cy="1792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5920" y="49528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naly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2499" t="13129" r="4023" b="4279"/>
          <a:stretch/>
        </p:blipFill>
        <p:spPr>
          <a:xfrm>
            <a:off x="7543800" y="5715000"/>
            <a:ext cx="1447920" cy="94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581280" y="60199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6019920"/>
            <a:ext cx="53316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nent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76720" y="1143000"/>
            <a:ext cx="289548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 flipH="1">
            <a:off x="5943600" y="190512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0725800">
            <a:off x="6309360" y="18205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990720"/>
            <a:ext cx="137160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ISGEI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9051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396600">
            <a:off x="2364120" y="17524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962160" y="281916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rcRect l="0" t="10973" r="1540" b="0"/>
          <a:stretch/>
        </p:blipFill>
        <p:spPr>
          <a:xfrm>
            <a:off x="7086600" y="1295280"/>
            <a:ext cx="1600200" cy="105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7543800" y="1143000"/>
            <a:ext cx="1371600" cy="27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og B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rcRect l="0" t="13737" r="20815" b="3034"/>
          <a:stretch/>
        </p:blipFill>
        <p:spPr>
          <a:xfrm>
            <a:off x="3886200" y="3505320"/>
            <a:ext cx="1927080" cy="14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4724280" y="3352680"/>
            <a:ext cx="14479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ISGEI Mash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14320" y="29876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v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rcRect l="1604" t="12561" r="44942" b="37551"/>
          <a:stretch/>
        </p:blipFill>
        <p:spPr>
          <a:xfrm>
            <a:off x="228600" y="1371600"/>
            <a:ext cx="1906560" cy="134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15238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920" y="25909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554600">
            <a:off x="2593440" y="27428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1388880" y="2764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0666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.icio.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Fed analy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6019920"/>
            <a:ext cx="53316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6"/>
          <a:srcRect l="0" t="20444" r="41245" b="4009"/>
          <a:stretch/>
        </p:blipFill>
        <p:spPr>
          <a:xfrm>
            <a:off x="6629400" y="2971800"/>
            <a:ext cx="1676520" cy="124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7238880" y="2743200"/>
            <a:ext cx="167652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IP Data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943600" y="373392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4572000"/>
            <a:ext cx="850680" cy="1219320"/>
          </a:xfrm>
          <a:custGeom>
            <a:avLst/>
            <a:gdLst>
              <a:gd name="textAreaLeft" fmla="*/ 41400 w 850680"/>
              <a:gd name="textAreaRight" fmla="*/ 809280 w 850680"/>
              <a:gd name="textAreaTop" fmla="*/ 41400 h 1219320"/>
              <a:gd name="textAreaBottom" fmla="*/ 1177920 h 1219320"/>
            </a:gdLst>
            <a:ahLst/>
            <a:rect l="textAreaLeft" t="textAreaTop" r="textAreaRight" b="textAreaBottom"/>
            <a:pathLst>
              <a:path w="21600" h="30956">
                <a:moveTo>
                  <a:pt x="3600" y="0"/>
                </a:moveTo>
                <a:arcTo wR="3600" hR="3600" stAng="16200000" swAng="-5400000"/>
                <a:lnTo>
                  <a:pt x="0" y="27356"/>
                </a:lnTo>
                <a:arcTo wR="3600" hR="3600" stAng="10800000" swAng="-5400000"/>
                <a:lnTo>
                  <a:pt x="18000" y="309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200" y="4572000"/>
            <a:ext cx="89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5257800"/>
            <a:ext cx="22860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2440" y="5105520"/>
            <a:ext cx="228600" cy="152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5240" y="5486400"/>
            <a:ext cx="22860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9800" y="5562720"/>
            <a:ext cx="228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440" y="5334120"/>
            <a:ext cx="228600" cy="152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6400800"/>
            <a:ext cx="13716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ISGEI W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6400800"/>
            <a:ext cx="129564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Fed W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114800" y="6019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4267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424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7962480" y="468576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6910200" y="43668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048120" y="441972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48120" y="45720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6400800"/>
            <a:ext cx="13716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iovanni W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295280" y="56386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438280" y="5638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047760" y="56386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9913400">
            <a:off x="2971080" y="411444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iv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913400">
            <a:off x="3102480" y="480024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257440" y="480024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219320" y="56386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5638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563868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rcRect l="599" t="24066" r="60196" b="30837"/>
          <a:stretch/>
        </p:blipFill>
        <p:spPr>
          <a:xfrm>
            <a:off x="4648320" y="5334120"/>
            <a:ext cx="1523880" cy="101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5029200" y="6248520"/>
            <a:ext cx="9144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8"/>
          <a:srcRect l="2830" t="21214" r="2830" b="6756"/>
          <a:stretch/>
        </p:blipFill>
        <p:spPr>
          <a:xfrm>
            <a:off x="6553080" y="4773600"/>
            <a:ext cx="1371600" cy="8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6477120" y="5535720"/>
            <a:ext cx="1447560" cy="407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ster Dire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94720" y="6383160"/>
            <a:ext cx="129528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spa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e S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rcRect l="12300" t="21351" r="41546" b="50599"/>
          <a:stretch/>
        </p:blipFill>
        <p:spPr>
          <a:xfrm>
            <a:off x="1295280" y="4572000"/>
            <a:ext cx="1752840" cy="10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1143000" y="4191120"/>
            <a:ext cx="14479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Fed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flow 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0"/>
          <a:srcRect l="12524" t="25233" r="12524" b="17596"/>
          <a:stretch/>
        </p:blipFill>
        <p:spPr>
          <a:xfrm>
            <a:off x="990720" y="3124080"/>
            <a:ext cx="1600200" cy="92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04920" y="2971800"/>
            <a:ext cx="106668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22:08:08Z</dcterms:created>
  <dc:creator>sf</dc:creator>
  <dc:description/>
  <dc:language>en-US</dc:language>
  <cp:lastModifiedBy>sf</cp:lastModifiedBy>
  <dcterms:modified xsi:type="dcterms:W3CDTF">2008-02-12T10:15:13Z</dcterms:modified>
  <cp:revision>20</cp:revision>
  <dc:subject/>
  <dc:title>Slide 1</dc:title>
</cp:coreProperties>
</file>